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3AC-C12F-472F-B776-A7D3BA06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566-25CB-4E62-9AC2-3AE88845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A27-0FE0-422E-97DC-46F3AFF8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5807-6C99-4DD4-87E0-C4770EE4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95E0-88F8-4BDD-BEB6-F9547263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7079-B800-4714-BA7F-85552843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C0BF-0617-4F68-9EFD-1F79F372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ADA6-D635-4557-83A8-B02B4DC5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09A0-80ED-47A1-B2F0-58E0A29F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E603-E2F0-43EA-8FFA-62755F9A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EB78-63AE-40B0-9089-BED3DCDA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D42-9926-418D-BEDA-7A72DD8E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2AC0-F5EE-4B10-83EF-F87B391E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F71D-8C82-4940-B880-FD8FAAA6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78EA-8BD5-4DB7-A221-244BA060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736C-7875-4618-BBA1-B277A0CA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42E7-1277-441E-99E1-EADD24E2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187ED-CBB9-4ABF-817B-738C21CD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A5121-67A0-4227-8445-5F6D4E26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30FB-3A65-4009-9270-4272E09A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4E6A-D2EA-4A0A-8DC5-6B6AD831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80269-62ED-41B7-B7D8-BA0CAF07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788-350B-4FCB-8D7F-A773F6B9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37FB6-F0D2-4962-AD13-631A63BB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2C0E7-AD27-4127-B1FC-D0CE1FA0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9AEDB-406C-4F22-9504-1E27A76B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35E8-605B-46F2-BB32-626D8DBB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3CBB4-7974-46F9-B1CD-2363558C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D915-8F3D-4A39-9E44-33002C38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70910-EE94-469D-A4EE-962FB213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7653B-1365-4B2A-8392-09A6C82E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E2928-C8EF-4F84-A65B-56543731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61541-3281-4D9C-BD4B-2F14B28C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D2C-E4A2-4BF9-A9CA-AF8B0ED5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40660-164F-4713-9532-7993B968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8D86-6AA6-4202-906D-D480E822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6D6A-15DA-40A9-9A39-6F1094EB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38634-F6FB-4463-A829-7FA1DC50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9E2D7-84D2-4181-96F7-C5567236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EBE22-F0C7-4823-9E56-3D0BA40E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3B364-2184-4630-968F-2F535A93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CB081-0E72-4CA1-9F59-5338DD0F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CF7C1-8F34-444E-9239-64CD95F8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90FFE-3BF6-4FA1-ABA6-B5A236FA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EA8-8385-4CF9-A215-28961832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3D5FC-D8CA-43FB-A2CB-233B3A90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5945A-050D-4C07-9EA6-07D51536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D5EBB-718E-4A16-AF7C-FA4CEF1E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394E5-7D4F-40FB-A849-8429B4C6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BA2C7-D22E-4BC0-858D-09E648FB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BAFE3-9974-480C-B25C-B82092CA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0317C-A682-4F2E-A6BA-48357720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B9CE3-B36E-413F-B233-9A910087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820FA-3004-4FFA-ABBF-F4F41A0C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574F3-B02D-49CA-92B5-7A999973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663-AC42-442D-8BB7-62A4B6FF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6886C-CE5E-440A-969F-608FC4FD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6B572-A5D8-4260-8A9C-9E2841FB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F3FD2-A62B-42FF-B2D2-0B272A31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BB0EF-8FD0-496E-AD86-083D5093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BB851-EC46-4E61-953B-8BDC3167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E2945-9737-4047-AF5E-850F14C7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A6602-28E7-4EA8-9B83-78D370DC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A1FD0-D4D2-454D-A756-625571DB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C9A16-A724-4DF3-84E8-26B7146A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8B46A-C974-49A9-9EA0-B6B9B5AB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820-2F86-481A-840A-6344FA98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A6199-134E-475C-A0FB-40A1FD98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0938D-D714-48D6-B113-C388EBBC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6066A-B84F-4FF5-B1AF-43F0DB19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8E0F7-C1C9-4407-B1DE-B0BF9EDB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B36B1-A33C-4033-9F20-6C0F9C39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742DF-EE56-4585-B736-E20E5A22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A59AB-9733-488F-9265-BF2C51E3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0C51A-DED9-4A73-B520-D1C72321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008B8-95E9-44B3-9675-B82EFB93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A403F-F159-467B-B456-C2FF5244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D4E-15D1-4AFC-8A7A-CF49E43F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4C0CC-3155-472D-A577-A41B43C9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74B8F-940C-4290-AD0B-A7E2162A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BDB69-01AC-4F2B-AA70-4DE87608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77921-A2DF-4765-925F-7F5084F5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7DD31-83CE-4020-AD3B-AE5080BE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CF3-06E5-4429-B16A-19AC61FB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C3F8-7183-4F46-A452-57FBDEBFEB2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D576-0D24-4E46-8AA3-57A2A1F68A7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12E1-FE1E-4F74-99C2-790031BF309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8D2F-3BDB-4919-A0C5-D749EF0F22D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4F63-50B0-4C35-9C2C-F9C2873E78E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BCC7-13C8-4CD5-81C9-8144642AB78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A180-0DC7-4CE5-8CD6-C27468E2BB8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f88631"/>
                </a:solidFill>
                <a:latin typeface="Gill Sans MT"/>
              </a:rPr>
              <a:t>Lead Mining in the 17</a:t>
            </a:r>
            <a:r>
              <a:rPr b="0" lang="en-AU" sz="4300" spc="-1" strike="noStrike" baseline="30000">
                <a:solidFill>
                  <a:srgbClr val="f88631"/>
                </a:solidFill>
                <a:latin typeface="Gill Sans MT"/>
              </a:rPr>
              <a:t>th</a:t>
            </a:r>
            <a:r>
              <a:rPr b="0" lang="en-AU" sz="4300" spc="-1" strike="noStrike">
                <a:solidFill>
                  <a:srgbClr val="f88631"/>
                </a:solidFill>
                <a:latin typeface="Gill Sans MT"/>
              </a:rPr>
              <a:t> Centu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356840" y="928800"/>
            <a:ext cx="7497720" cy="21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lead mining was one of the most popular and well paid professions in England in the 17</a:t>
            </a:r>
            <a:r>
              <a:rPr b="0" lang="en-AU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 Century. For poor families, it provided them with the possibility of a better life simply from one lucky find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i="1" lang="en-US" sz="1700" spc="-1" strike="noStrike">
                <a:solidFill>
                  <a:srgbClr val="000000"/>
                </a:solidFill>
                <a:latin typeface="Gill Sans MT"/>
              </a:rPr>
              <a:t>without lead, many thousands will be undone; that great multitude, their wives, children and families, that live merely by getting of lead ore and trading in that commodity</a:t>
            </a: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.’ </a:t>
            </a: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quote from the governing Derby committee during the English Civil War (1642 – 1646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KT42" descr="show larger in a new window"/>
          <p:cNvPicPr/>
          <p:nvPr/>
        </p:nvPicPr>
        <p:blipFill>
          <a:blip r:embed="rId1"/>
          <a:stretch/>
        </p:blipFill>
        <p:spPr>
          <a:xfrm>
            <a:off x="5508720" y="2852640"/>
            <a:ext cx="2938320" cy="30006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http://www.peakdistrict-nationalpark.info/_images/_pictures/KT36.jpg"/>
          <p:cNvPicPr/>
          <p:nvPr/>
        </p:nvPicPr>
        <p:blipFill>
          <a:blip r:embed="rId2"/>
          <a:stretch/>
        </p:blipFill>
        <p:spPr>
          <a:xfrm>
            <a:off x="1476360" y="3213000"/>
            <a:ext cx="3835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356840" y="1000080"/>
            <a:ext cx="749772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mining was hard and dangerous work, and death, illness or injury was commo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poisonous lead dust, underground floods, falling rock, methane gas and lack of oxygen were just a few of the potential hazard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il_fi" descr="http://www.peakdistrict-nationalpark.info/_images/_pictures/KT33.jpg"/>
          <p:cNvPicPr/>
          <p:nvPr/>
        </p:nvPicPr>
        <p:blipFill>
          <a:blip r:embed="rId1"/>
          <a:stretch/>
        </p:blipFill>
        <p:spPr>
          <a:xfrm>
            <a:off x="1763640" y="2492280"/>
            <a:ext cx="3033720" cy="3143520"/>
          </a:xfrm>
          <a:prstGeom prst="rect">
            <a:avLst/>
          </a:prstGeom>
          <a:ln w="0">
            <a:noFill/>
          </a:ln>
        </p:spPr>
      </p:pic>
      <p:pic>
        <p:nvPicPr>
          <p:cNvPr id="324" name="KT32" descr="show larger in a new window"/>
          <p:cNvPicPr/>
          <p:nvPr/>
        </p:nvPicPr>
        <p:blipFill>
          <a:blip r:embed="rId2"/>
          <a:stretch/>
        </p:blipFill>
        <p:spPr>
          <a:xfrm>
            <a:off x="5292720" y="2492280"/>
            <a:ext cx="3089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285560" y="999720"/>
            <a:ext cx="7497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by the 17</a:t>
            </a:r>
            <a:r>
              <a:rPr b="0" lang="en-AU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 century, lead was used for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the roofs of public building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new houses being built by the nobility and gentr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all  houses, including farmhouses and cottages, had windows with lead bar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water storage and piping, as it was the only material that was strong enough for these purpos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ammunition by every arm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4" descr="http://i.dailymail.co.uk/i/pix/2010/11/05/article-1326855-0BE59EB7000005DC-191_468x311.jpg"/>
          <p:cNvPicPr/>
          <p:nvPr/>
        </p:nvPicPr>
        <p:blipFill>
          <a:blip r:embed="rId1"/>
          <a:stretch/>
        </p:blipFill>
        <p:spPr>
          <a:xfrm>
            <a:off x="4214880" y="3286080"/>
            <a:ext cx="4100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331640" y="1125360"/>
            <a:ext cx="749772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mining took precedence over land ownership, no land owner or farmer could interfere with lead min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y the beginning of the 1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century, lead mining in England declined, as an intensive period of Welsh mining had commenced, and many English miners moved to Halkyn in Wales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2" descr="http://www.peakdistrict-nationalpark.info/_images/_pictures/LP18.jpg"/>
          <p:cNvPicPr/>
          <p:nvPr/>
        </p:nvPicPr>
        <p:blipFill>
          <a:blip r:embed="rId1"/>
          <a:stretch/>
        </p:blipFill>
        <p:spPr>
          <a:xfrm>
            <a:off x="1258920" y="3357720"/>
            <a:ext cx="3608280" cy="2357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://www.peakdistrict-nationalpark.info/_images/_pictures/KT34.jpg"/>
          <p:cNvPicPr/>
          <p:nvPr/>
        </p:nvPicPr>
        <p:blipFill>
          <a:blip r:embed="rId2"/>
          <a:stretch/>
        </p:blipFill>
        <p:spPr>
          <a:xfrm>
            <a:off x="5076720" y="3357720"/>
            <a:ext cx="35546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Bibliograph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Derbyshire Lead Mining History’, Wikipedia [online], 2010,  accessed 30/11/2010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 MT"/>
              </a:rPr>
              <a:t>http://en.wikipedia.org/wiki/Derbyshire_lead_mining_histor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ead Mining’, Peak District National Park [online], 2008,  accessed 30/11/2010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 MT"/>
              </a:rPr>
              <a:t>http://www.peakdistrict-nationalpark.info/time/industry/leadmining.htm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1:03:54Z</dcterms:created>
  <dc:creator>Mentone Grammar</dc:creator>
  <dc:description/>
  <dc:language>en-US</dc:language>
  <cp:lastModifiedBy>John</cp:lastModifiedBy>
  <dcterms:modified xsi:type="dcterms:W3CDTF">2010-11-30T05:45:31Z</dcterms:modified>
  <cp:revision>14</cp:revision>
  <dc:subject/>
  <dc:title>Lead Mining in the 17th Century</dc:title>
</cp:coreProperties>
</file>